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836-0A92-4803-BD25-7C975E93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BFE-5423-4865-BC5F-7C63819C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C40-091A-401B-AD93-0A8BBCFF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47A-6E98-4864-893C-B2056921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B761-8C5D-40EC-88A5-D5845EA1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8615-1E6D-45D8-B534-7A2AA5D2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3C6C-089F-413F-AA58-70C751EA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2B7A-B00B-47AB-BC8A-975FE48F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9676-8EF3-416F-ACE7-30F94E89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3F0-8FD0-45EA-A4EE-76218FF7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3542-4D1D-4C54-897C-0DAD4CAB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05C-5262-4F8D-8E1B-9F0DB163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91BA-6645-4F47-BA36-16077AF7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A531-EA36-47E2-A07C-38283932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7149-1D64-47B8-85B3-779A5BAB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1AF3-A7B6-4FB3-9D11-C07C5DC7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035E-0878-459B-ABBB-5680D814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EDC-84B8-4AE1-98A4-9AD475F7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0CF-5757-4DFA-8E44-68C0100A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209-1803-4DE5-BD22-20B2C0D3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576-B7D0-41FE-83F9-945A16F3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7E9-2A23-4EAE-ABD6-DD299F69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139-0FEE-4BB1-A992-03279CC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39D-0996-4F75-B477-F7391EC2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4DD1-CD36-44B5-969B-E60223093FA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04AD-4F7F-4D24-8660-908B167D6B6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arm-Up Senten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first modern day Olympic Games taked place in Athens Greece in 189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en he began playing pool for exercise louis XIV made the game vary popular in Fran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ournal #7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ick your favorite TV show, movie, or book and write a sequel to i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arm-Up Senten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erman leader Adolph Hitler born in Braunau, Austria in 1889 took his own life at 330 pm on May 1 1945 in Berlin German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 learned this when I visited my uncles farm Pigs can get sunburned just like humans.  This explains why pigs hang out in cool soft mud whenever possibl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ournal #8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ite about your name.  How did you get it?  What does it mean?  Do you like it?  Would you change i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riday Warm-up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ke up a word search puzzle containing ten action verbs.  Exchange papers with a neighbor  and solve each other’s puzzles.  Exchange papers again for scoring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35:53Z</dcterms:created>
  <dc:creator>tpagel</dc:creator>
  <dc:description/>
  <dc:language>en-US</dc:language>
  <cp:lastModifiedBy>tpagel</cp:lastModifiedBy>
  <dcterms:modified xsi:type="dcterms:W3CDTF">2010-06-03T16:36:14Z</dcterms:modified>
  <cp:revision>1</cp:revision>
  <dc:subject/>
  <dc:title>Warm-Up Sentences</dc:title>
</cp:coreProperties>
</file>